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FE7C-2293-46B0-982A-C1E6187BE4D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69CE-43E4-4986-ABFA-A567596E3DA3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E38FE2C6-A0C9-4B1C-8DDD-97E2F7C6157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6E305883-EFAC-4A5C-BE2A-D99A2CD9462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993600" y="754200"/>
            <a:ext cx="48088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F441-B7B4-4BC5-9591-DD4D5FD487DE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E071F3A8-56D6-43C3-A3B1-6AA28FC9244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87E2BC96-304B-4408-BCE3-FEA7E7E5DE3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993600" y="754200"/>
            <a:ext cx="4805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8E7F-D89E-46C8-B049-33B86209F826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AB28E57E-85FB-46F3-B6E7-C5B999D0E93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D7B8EC1C-FFA6-420B-AD3F-99870CF329B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993600" y="754200"/>
            <a:ext cx="4805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A252-6506-4FC3-8001-645DD2630BF3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7244586A-C1F8-44E8-B7C8-059215B0E1C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33D76952-7D4C-43A9-8A07-3D0BA0CCBE7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995400" y="754200"/>
            <a:ext cx="479880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E49-BB13-4C75-BBBD-12481A69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62C-6E53-48D3-885D-EB41A2BA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A27-9004-4B1D-B99D-3E4E82F6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50C-562E-47DE-B0BC-0A085D54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EE1-3F9D-441D-BE58-1024A906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D42-91A7-49DF-9750-8109E94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A87-9C80-4D48-A019-D3C427D6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9D6-514C-4A01-8BED-A2774D76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09E-2FB5-4C8B-81BF-57505C75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0DB-4C90-4394-B8F7-2A83FE5A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B1D-65AD-490F-B220-4083AD98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E1B-6498-4F8D-911E-8F0E42C6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079F-A9B3-4924-B319-83711BCA5202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3711-DA4D-4518-AC83-4C87DF90A5A0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" name="Text Box 1"/>
          <p:cNvSpPr/>
          <p:nvPr/>
        </p:nvSpPr>
        <p:spPr>
          <a:xfrm>
            <a:off x="457200" y="272880"/>
            <a:ext cx="82202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rogetto Screening LILT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3933720"/>
            <a:ext cx="822024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“</a:t>
            </a: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i scrive screening, si legge prevenzione”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165560" cy="125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851280" y="1557360"/>
            <a:ext cx="18223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6659640" y="1413000"/>
            <a:ext cx="1800000" cy="143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ogo%20regione%20rgb_"/>
          <p:cNvPicPr/>
          <p:nvPr/>
        </p:nvPicPr>
        <p:blipFill>
          <a:blip r:embed="rId4"/>
          <a:stretch/>
        </p:blipFill>
        <p:spPr>
          <a:xfrm>
            <a:off x="971640" y="1700280"/>
            <a:ext cx="158436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3D87-CF0A-4F7C-82E0-95CA86D3CE72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mammografico</a:t>
            </a:r>
            <a:r>
              <a:rPr b="0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donne 50-69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00000" y="1916280"/>
            <a:ext cx="8064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3 % (97.500 don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65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16360" cy="285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35067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07B4-B506-4AC3-96EC-11E681812B28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60400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032360" cy="33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3"/>
          <a:stretch/>
        </p:blipFill>
        <p:spPr>
          <a:xfrm>
            <a:off x="4427640" y="2349360"/>
            <a:ext cx="403992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32C5-7287-4565-B34C-4D9C58EE774B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citologico</a:t>
            </a:r>
            <a:r>
              <a:rPr b="0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donne 25-64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00000" y="184464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4 % (192.000 don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56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368640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5625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B837-57A0-4E88-85F0-621201BFC1B3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345440" cy="501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248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4772160" y="3429000"/>
            <a:ext cx="3790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CEAE-D976-42BF-995E-8DA0B7BF762A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colorettale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popolazione 50-74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00000" y="184464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0 % (254.000 perso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44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1"/>
          <a:stretch/>
        </p:blipFill>
        <p:spPr>
          <a:xfrm>
            <a:off x="2195640" y="3284640"/>
            <a:ext cx="45352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CBDC-2F92-49BA-B6CC-56AAB061E23E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7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4103640" cy="3600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3921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20A4-09CE-42D3-BA3C-B6601728F026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457200" y="272880"/>
            <a:ext cx="822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artner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258920" y="1628640"/>
            <a:ext cx="6769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sservatorio Nazionale Screening,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ruppo Italiano Screening Mammografico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ruppo Oncologico Meridionale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ocietà Italiana Senologia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Associazione Italiana Oncologia Medic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Associazione Italiana Radiologia Oncologic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ocietà Italiana Medici Generali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Europa Donn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sservatorio Nazionale sulla Salute della Donn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......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F104-2E70-483A-A505-EF97D23BE88D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57200" y="272880"/>
            <a:ext cx="8223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Finalità ed obiettivi del progett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68360" y="1916280"/>
            <a:ext cx="82231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94000"/>
              </a:lnSpc>
              <a:spcAft>
                <a:spcPts val="128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arantire a tutti i cittadini accesso informato, partecipazione e qualità nei programmi di screen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creare un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modello integrato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er la fruizione di percorsi </a:t>
            </a:r>
            <a:r>
              <a:rPr b="0" lang="it-IT" sz="2000" spc="-1" strike="noStrike" u="sng">
                <a:solidFill>
                  <a:srgbClr val="003399"/>
                </a:solidFill>
                <a:uFillTx/>
                <a:latin typeface="Verdana"/>
                <a:ea typeface="ＭＳ Ｐゴシック"/>
              </a:rPr>
              <a:t>informativi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 riguardanti la prevenzione oncologic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monitorarne i processi di informazione e valutarne gli esit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diffondere strumenti per contribuire al miglioramento dell'adesion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03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Usare la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buona pratica della campagna nazionale del 2006,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e sperimentata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nel 2008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per proporre Campagne Informative Regionali personalizzandole in base alle specifiche esigenze ed ai target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 algn="ctr">
              <a:lnSpc>
                <a:spcPct val="87000"/>
              </a:lnSpc>
              <a:spcAft>
                <a:spcPts val="103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8CE6-8659-4F6D-A5B0-279CEED086A7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457200" y="314280"/>
            <a:ext cx="82216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I passi del progett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4880"/>
            <a:ext cx="822168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BIETTIVO 1.1: Creare Cabine di Regia regional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2.1: Predisporre campagne informative 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gionali per garantire la massima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pertura del target individuato e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promuovere l’importanza della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municazione nella prevenzione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ncologic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2.2: Diffondere i risultati attraverso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l’organizzazione di convegni regional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7642-C8D0-4BD4-809D-A6C9A1948245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PIANO NAZIONALE DELLA PREVENZIONE</a:t>
            </a: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2010 – 2012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4.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La prevenzione nella popolazione a rischio</a:t>
            </a:r>
            <a:br>
              <a:rPr sz="2000"/>
            </a:b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4.2 I tumori e gli scree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OBIETTIVI GENERALI DI SALUTE</a:t>
            </a: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Riduzione della mortalità per carcinoma della mammella,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della cervice uterina e del carcinoma del colon-retto</a:t>
            </a: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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LINEE DI INTERVENTO</a:t>
            </a: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………</a:t>
            </a: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dei programmi di screening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(per lo screening colorettale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romozione del coinvolgimento dei soggetti fragili che non aderiscono ai programmi di screening oncologici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(per lo screening mammografico e citologico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C49F-9CB1-49CB-BFA7-2AB9BB11D45F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1.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reazione della cabina di regia regionale attravers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Individuazione dei portatori di interes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efinizione del ruolo della cabina di reg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Incontro con i portatori di interesse per la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stituzione della cabina di reg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Stato di avanzamento del progetto in Umbria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Azioni avvia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38A6-E1A5-4F8D-9653-3DFB0B41FC41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5640" y="2205000"/>
            <a:ext cx="6769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Tavolo regionale coordinamento scree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sponsabili comunicazione Aziende US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Associazion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Farmaci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Medici di Medicina Gener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te oncologica region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Mediatori cultural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Individuazione dei portatori di interesse </a:t>
            </a:r>
            <a:br>
              <a:rPr sz="2400"/>
            </a:b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da coinvolge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EE79-5BFB-456A-BE14-8F2D104EBDC4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Favorire e migliorare il processo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i comunicazione inter-istituzionale per</a:t>
            </a: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idurre la quota di inappropriatezza e disequità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aumentare la partecipazione ai programmi di screening, soprattutto nelle fasce considerate deboli (immigrati, anzia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Ruolo della cabina di regia region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2710-62C1-4582-A489-4668BFFC87D8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Programmi di screening attivi in Umbri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384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Screening mammografico e citologic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al periodo 1997-200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Screening colorett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al 2° semestre 2006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4720" y="1557360"/>
            <a:ext cx="433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80" name="Object 1024"/>
          <p:cNvGraphicFramePr/>
          <p:nvPr/>
        </p:nvGraphicFramePr>
        <p:xfrm>
          <a:off x="4859280" y="1773360"/>
          <a:ext cx="352764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73360"/>
                    <a:ext cx="35276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7"/>
          <p:cNvSpPr/>
          <p:nvPr/>
        </p:nvSpPr>
        <p:spPr>
          <a:xfrm>
            <a:off x="1403280" y="126828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4 Aziende USL e 2 Aziende Ospedalier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9:14Z</dcterms:created>
  <dc:creator>Regione dell'Umbria</dc:creator>
  <dc:description/>
  <dc:language>en-US</dc:language>
  <cp:lastModifiedBy>giuseppinamanuali</cp:lastModifiedBy>
  <dcterms:modified xsi:type="dcterms:W3CDTF">2011-07-05T14:13:15Z</dcterms:modified>
  <cp:revision>50</cp:revision>
  <dc:subject/>
  <dc:title>Incidenti domestici</dc:title>
</cp:coreProperties>
</file>